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41D6-8885-496A-B22E-59CC2ECA4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F947-CC1B-4E93-88E7-42BB0D79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D15F-C74D-4B9D-96DD-3BF0D3FF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9D20-BF8A-4F3C-9303-2D87699ED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874B-3A85-40C8-B2D4-4E326279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DFFF-8B43-4898-9CCD-3ACF8A16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3DD7-0ABD-4067-9506-AC18C262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BCFF-6387-4000-BA99-788859EA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F7EF-830E-4822-90AE-FAF02572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D809-A191-4267-9C63-D49038F5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EFF4-C914-4EA5-8C91-BD841685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4C4D-DBE7-4CC9-8BEA-297F6DA8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6FB0-3FAD-4901-8C51-85AD79C11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8000" y="2490840"/>
            <a:ext cx="1917720" cy="3314520"/>
          </a:xfrm>
          <a:custGeom>
            <a:avLst/>
            <a:gdLst/>
            <a:ahLst/>
            <a:rect l="l" t="t" r="r" b="b"/>
            <a:pathLst>
              <a:path w="1751" h="3024">
                <a:moveTo>
                  <a:pt x="0" y="2256"/>
                </a:moveTo>
                <a:cubicBezTo>
                  <a:pt x="288" y="1368"/>
                  <a:pt x="576" y="480"/>
                  <a:pt x="864" y="240"/>
                </a:cubicBezTo>
                <a:cubicBezTo>
                  <a:pt x="1152" y="0"/>
                  <a:pt x="1751" y="639"/>
                  <a:pt x="1728" y="816"/>
                </a:cubicBezTo>
                <a:cubicBezTo>
                  <a:pt x="1705" y="993"/>
                  <a:pt x="785" y="1057"/>
                  <a:pt x="727" y="1303"/>
                </a:cubicBezTo>
                <a:cubicBezTo>
                  <a:pt x="669" y="1549"/>
                  <a:pt x="1371" y="2003"/>
                  <a:pt x="1378" y="2290"/>
                </a:cubicBezTo>
                <a:cubicBezTo>
                  <a:pt x="1385" y="2577"/>
                  <a:pt x="895" y="2871"/>
                  <a:pt x="768" y="30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87520" y="3753000"/>
            <a:ext cx="104760" cy="106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964040"/>
            <a:ext cx="2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2376360"/>
            <a:ext cx="2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3200400"/>
            <a:ext cx="2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3807000"/>
            <a:ext cx="2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84600" y="4876920"/>
            <a:ext cx="2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65320" y="5753160"/>
            <a:ext cx="2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52280" y="771480"/>
            <a:ext cx="7315200" cy="2125800"/>
            <a:chOff x="152280" y="771480"/>
            <a:chExt cx="7315200" cy="2125800"/>
          </a:xfrm>
        </p:grpSpPr>
        <p:sp>
          <p:nvSpPr>
            <p:cNvPr id="50" name=""/>
            <p:cNvSpPr/>
            <p:nvPr/>
          </p:nvSpPr>
          <p:spPr>
            <a:xfrm>
              <a:off x="1219320" y="847800"/>
              <a:ext cx="6095880" cy="1695240"/>
            </a:xfrm>
            <a:custGeom>
              <a:avLst/>
              <a:gdLst/>
              <a:ahLst/>
              <a:rect l="l" t="t" r="r" b="b"/>
              <a:pathLst>
                <a:path w="3840" h="1068">
                  <a:moveTo>
                    <a:pt x="0" y="831"/>
                  </a:moveTo>
                  <a:cubicBezTo>
                    <a:pt x="69" y="828"/>
                    <a:pt x="314" y="912"/>
                    <a:pt x="413" y="810"/>
                  </a:cubicBezTo>
                  <a:cubicBezTo>
                    <a:pt x="512" y="708"/>
                    <a:pt x="536" y="334"/>
                    <a:pt x="593" y="217"/>
                  </a:cubicBezTo>
                  <a:cubicBezTo>
                    <a:pt x="650" y="100"/>
                    <a:pt x="709" y="3"/>
                    <a:pt x="756" y="106"/>
                  </a:cubicBezTo>
                  <a:cubicBezTo>
                    <a:pt x="803" y="209"/>
                    <a:pt x="749" y="703"/>
                    <a:pt x="873" y="833"/>
                  </a:cubicBezTo>
                  <a:cubicBezTo>
                    <a:pt x="997" y="963"/>
                    <a:pt x="1354" y="1024"/>
                    <a:pt x="1501" y="886"/>
                  </a:cubicBezTo>
                  <a:cubicBezTo>
                    <a:pt x="1648" y="748"/>
                    <a:pt x="1687" y="0"/>
                    <a:pt x="1757" y="7"/>
                  </a:cubicBezTo>
                  <a:cubicBezTo>
                    <a:pt x="1827" y="14"/>
                    <a:pt x="1725" y="784"/>
                    <a:pt x="1920" y="926"/>
                  </a:cubicBezTo>
                  <a:cubicBezTo>
                    <a:pt x="2115" y="1068"/>
                    <a:pt x="2718" y="1006"/>
                    <a:pt x="2927" y="862"/>
                  </a:cubicBezTo>
                  <a:cubicBezTo>
                    <a:pt x="3136" y="718"/>
                    <a:pt x="3088" y="60"/>
                    <a:pt x="3171" y="65"/>
                  </a:cubicBezTo>
                  <a:cubicBezTo>
                    <a:pt x="3254" y="70"/>
                    <a:pt x="3316" y="747"/>
                    <a:pt x="3427" y="891"/>
                  </a:cubicBezTo>
                  <a:cubicBezTo>
                    <a:pt x="3538" y="1035"/>
                    <a:pt x="3754" y="920"/>
                    <a:pt x="3840" y="928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219320" y="771480"/>
              <a:ext cx="6095880" cy="1692360"/>
            </a:xfrm>
            <a:custGeom>
              <a:avLst/>
              <a:gdLst/>
              <a:ahLst/>
              <a:rect l="l" t="t" r="r" b="b"/>
              <a:pathLst>
                <a:path w="3840" h="1066">
                  <a:moveTo>
                    <a:pt x="0" y="907"/>
                  </a:moveTo>
                  <a:cubicBezTo>
                    <a:pt x="112" y="905"/>
                    <a:pt x="539" y="1007"/>
                    <a:pt x="675" y="893"/>
                  </a:cubicBezTo>
                  <a:cubicBezTo>
                    <a:pt x="811" y="779"/>
                    <a:pt x="770" y="354"/>
                    <a:pt x="815" y="224"/>
                  </a:cubicBezTo>
                  <a:cubicBezTo>
                    <a:pt x="860" y="94"/>
                    <a:pt x="905" y="0"/>
                    <a:pt x="948" y="113"/>
                  </a:cubicBezTo>
                  <a:cubicBezTo>
                    <a:pt x="991" y="226"/>
                    <a:pt x="935" y="770"/>
                    <a:pt x="1071" y="905"/>
                  </a:cubicBezTo>
                  <a:cubicBezTo>
                    <a:pt x="1207" y="1040"/>
                    <a:pt x="1626" y="1066"/>
                    <a:pt x="1763" y="922"/>
                  </a:cubicBezTo>
                  <a:cubicBezTo>
                    <a:pt x="1900" y="778"/>
                    <a:pt x="1821" y="46"/>
                    <a:pt x="1891" y="38"/>
                  </a:cubicBezTo>
                  <a:cubicBezTo>
                    <a:pt x="1961" y="30"/>
                    <a:pt x="2098" y="718"/>
                    <a:pt x="2182" y="875"/>
                  </a:cubicBezTo>
                  <a:cubicBezTo>
                    <a:pt x="2266" y="1032"/>
                    <a:pt x="2328" y="963"/>
                    <a:pt x="2397" y="980"/>
                  </a:cubicBezTo>
                  <a:cubicBezTo>
                    <a:pt x="2466" y="997"/>
                    <a:pt x="2546" y="984"/>
                    <a:pt x="2595" y="980"/>
                  </a:cubicBezTo>
                  <a:cubicBezTo>
                    <a:pt x="2644" y="976"/>
                    <a:pt x="2665" y="979"/>
                    <a:pt x="2694" y="957"/>
                  </a:cubicBezTo>
                  <a:cubicBezTo>
                    <a:pt x="2723" y="935"/>
                    <a:pt x="2714" y="989"/>
                    <a:pt x="2769" y="846"/>
                  </a:cubicBezTo>
                  <a:cubicBezTo>
                    <a:pt x="2824" y="703"/>
                    <a:pt x="2968" y="88"/>
                    <a:pt x="3025" y="96"/>
                  </a:cubicBezTo>
                  <a:cubicBezTo>
                    <a:pt x="3082" y="104"/>
                    <a:pt x="2977" y="742"/>
                    <a:pt x="3113" y="893"/>
                  </a:cubicBezTo>
                  <a:cubicBezTo>
                    <a:pt x="3249" y="1044"/>
                    <a:pt x="3689" y="981"/>
                    <a:pt x="3840" y="1004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143000" y="2398680"/>
              <a:ext cx="6172200" cy="0"/>
            </a:xfrm>
            <a:prstGeom prst="line">
              <a:avLst/>
            </a:prstGeom>
            <a:ln w="316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14400" y="811080"/>
              <a:ext cx="0" cy="17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14400" y="251460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81280" y="252900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2280" y="150660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9:27:18Z</dcterms:created>
  <dc:creator>dmorris</dc:creator>
  <dc:description/>
  <dc:language>en-US</dc:language>
  <cp:lastModifiedBy>dmorris</cp:lastModifiedBy>
  <dcterms:modified xsi:type="dcterms:W3CDTF">2006-04-26T21:51:03Z</dcterms:modified>
  <cp:revision>4</cp:revision>
  <dc:subject/>
  <dc:title>Slide 1</dc:title>
</cp:coreProperties>
</file>